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ED7-9889-48EB-B16E-E96EF946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C70-BB51-4884-9274-B496B64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884-01A4-4C37-9EDF-5FC0CCA8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37F-846E-46D2-93FD-84A68CE2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D96-9BF0-4719-93DD-9E78631C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8BB-3816-4508-8A50-515AC640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960-E8A6-448A-98B1-FDC691D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318-2061-4825-9515-5A219EB9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794-1B5E-4604-B36D-92D72689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2B7-F8D6-45FB-9E5D-2EC2A82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114-AF85-40A4-BA5E-6B6D974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A7F-DE03-48F8-9EDF-04A54CB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4CFD-126F-48F5-9CC2-E1B7657EBA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нализ типичных затруднений выпускников при выполнении заданий  ЕГЭ-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ИЛЕПИНА И.А, учитель русского языка и литературы МАОУ «Гимназия №1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О «город Бугурусла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https://avatars.mds.yandex.net/i?id=b2706cde00b679f110ab94a535c1cbbdc627b1a6-4080017-images-thumbs&amp;n=13"/>
          <p:cNvPicPr/>
          <p:nvPr/>
        </p:nvPicPr>
        <p:blipFill>
          <a:blip r:embed="rId1"/>
          <a:stretch/>
        </p:blipFill>
        <p:spPr>
          <a:xfrm>
            <a:off x="76320" y="85680"/>
            <a:ext cx="4572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219320"/>
          <a:ext cx="8229600" cy="437328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19320"/>
          <a:ext cx="8229600" cy="2971800"/>
        </p:xfrm>
        <a:graphic>
          <a:graphicData uri="http://schemas.openxmlformats.org/drawingml/2006/table">
            <a:tbl>
              <a:tblPr/>
              <a:tblGrid>
                <a:gridCol w="1981080"/>
                <a:gridCol w="3505320"/>
                <a:gridCol w="274320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+2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9 %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219320"/>
          <a:ext cx="8229600" cy="472428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743200"/>
              </a:tblGrid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итерий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ий процент выполнения  2025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ическая 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фограф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нкту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евые нор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0:19:23Z</dcterms:created>
  <dc:creator>Татьяна</dc:creator>
  <dc:description/>
  <dc:language>en-US</dc:language>
  <cp:lastModifiedBy>User</cp:lastModifiedBy>
  <dcterms:modified xsi:type="dcterms:W3CDTF">2025-10-13T16:02:40Z</dcterms:modified>
  <cp:revision>65</cp:revision>
  <dc:subject/>
  <dc:title>Технология педагогических мастерских</dc:title>
</cp:coreProperties>
</file>